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7.gif" ContentType="image/gif"/>
  <Override PartName="/ppt/media/image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8.gif" ContentType="image/gif"/>
  <Override PartName="/ppt/media/image19.wmf" ContentType="image/x-wmf"/>
  <Override PartName="/ppt/media/image18.jpeg" ContentType="image/jpeg"/>
  <Override PartName="/ppt/media/image9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5522-0436-47FB-8997-28AA2A5BE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12FC-3EFB-4E0F-A048-3A1BB1283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5D409-E637-4992-8F2B-2AD27CFC0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B0EF-5D29-4077-A5CE-E0CF4D13A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3EFC-8E87-4B87-8662-9B988DB916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04870-9DEB-4CD7-B88D-F2534D5CAF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AC7C5-9273-4C85-877F-198992314B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F810A-F081-49BF-A111-A71676AC0F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73CE2-5021-4095-9189-0CF71FC229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77C5-9AD0-4C51-9523-0879F7CD08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C5EA6-F33B-4CFD-AD66-22F99CE0CA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57AC-FEAD-42CD-ABF2-B218EC38D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672DC-1DF3-40FA-A5A7-6A976A188F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CEF08-7663-443E-8477-D807401876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B9999-F436-4548-B188-BFD2E03B3D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916F-D22A-4190-BE4F-444B71A10E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9181-E6E1-441A-8765-4D7B3BF3B4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55F-778D-46DD-9544-04E6E848C5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5DD-FF18-434B-B20B-3CC8B8DB1E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000-9D29-4A02-9EF3-59E2283831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FA5-4BDD-42EB-85F0-BEE8542126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CEA-3589-48CE-82A1-DA1104C43C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58A6-9445-4F96-B48E-1A2474CB99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1F9-D0E4-4FE1-8854-564E9959A8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23A-66BD-46B0-8849-2F70D9E5FF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F76A-3F4F-45E7-896D-582D7ABCA2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F5C-995E-4E0B-AD8A-F7EECEC3BE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9DC-95EA-4387-B670-60243FFAFA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C31-3FAF-4664-B411-7E831FAE99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50D-1F29-4531-AA9E-0F9A45775F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CDE85-3750-4AB1-990E-FCE4CFB631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E3A85-1060-421F-9EFE-A550BF70A2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FB20C-AF4E-4283-8929-481736FA3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9C41-09A0-456D-BF1B-C9D12DADD8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F92AF-F24A-4350-8F51-14025DC531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311F4-E0C1-436D-AE3A-4BFE0162CF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9CA59-FE03-4A1E-A7CF-3505E0C4BB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A622A-3A84-4970-A612-F099A6FBD4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ACF84-E762-4FEB-A1D6-FD697484AF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5397F-DA0B-48BE-A7B6-81E4B5FA92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70BC4-E310-4527-936B-2CAF8463B6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6B8FE-A0CE-4049-8EFD-1974AE7FBA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78E19-EECA-4F79-A09D-E957D0DD885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45AE4-14EB-48FE-A2F2-984272088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B56F-82FA-49F3-9D2E-339F4C7F8E2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6FEDA-14D0-4D2F-BB4A-A9C715F52A7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DD342-F5F8-47C1-8255-C6625DC372E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78939-15CE-49F4-95A8-38DD27E2988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6140D-E962-4204-814D-091952ACA19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0AF56-F76A-4FB2-B417-D7682F508C6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2CC89-D98D-4BAA-B507-81AB6844FA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37ACD-C203-46A7-B012-5EE39D5898E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E5972-F6BE-4043-AE9D-853FB492B85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3CD4A-5777-4B78-8470-48699F231D2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A898B-D30A-45D2-A311-088BDB797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7D5D-E71E-401E-A8E9-C4F789A5DB6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5E475-AF18-42A2-9248-F5C448FB18C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6A1F-640F-48F5-97FC-035A30CB0E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5B3F-E7B5-4E22-9DDF-C4A68AC2999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45B3-E0D6-422A-961C-076B3462AA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FCD9-9065-43C5-B583-7CA67D647A8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8AAB-29F4-4F5E-B878-C287DCCDE8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9A26-86A4-4DA5-B0DE-83B3862D0B1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E699-DB2A-4FEF-8301-9892065ED1D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314E-DB01-4DA0-BA51-5FF1A8B8549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97B8-B283-4614-9F23-561A1A216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68F4-7F68-4906-8EF1-CB603A290C1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19CE-A456-46FA-B8D1-1069A3981BD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0A59-C063-4B01-83F0-D13EB14EDE1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B539-7AF3-4C78-8C2C-01017B03335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EB0AC9-857D-40E3-8A47-4776BC28D49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04B7EB-BC29-40D8-AC2E-8C3F75AA362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27FC9D-16E0-4EAF-8C61-F8AFC972BF0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39DD24-7E0A-4A09-8059-14B8DF3BB73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1D3A10-92D9-4735-B836-1AB42FD5246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F57CF6-288F-46AD-8DD1-68BEF0F49ED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E98208-B484-43CF-B09E-6F33E6ABC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FF12-A9DD-41BE-B1F0-35A32D9DB77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96395B-B91D-4B60-843D-7C96464C1A1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0D1D96-C55E-4BAE-9816-56B4BF02005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FE06BA-0240-4616-A6FA-128A8A671AA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CDB779-AB8B-4CFE-97EC-7F1D72EB882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86638F-0EAD-4EBF-B436-35AB6737871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C0CE-7CEF-4F67-83CF-C61BCA6F19B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15B769-6827-43C6-91E1-1A9AB197EBB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9097920" y="22212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1146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1325520" y="4929120"/>
            <a:ext cx="571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CD178E-65CC-468C-9E77-43FD94BFECD7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3CA68F-97D4-42E0-BF8E-8868A3AA37A4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9096480" y="2174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1146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1339560" y="4929120"/>
            <a:ext cx="5713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4A82BB-C27C-46E6-8649-DA59F6CD9B16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EBFD81-F57B-499D-B4C8-BD68BB7A1C58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E41415-1715-4C1C-BED4-A38EF121FE9D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19D429-A568-42AD-A20B-27A9CF575AEE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539640" y="642960"/>
            <a:ext cx="7920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ОЕКТ НА ТЕМ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«НЕГАТИВНОЕ ВЛИЯНИЕ ШУМА Н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ДОРОВЬЕ ЧЕЛОВЕ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4859280" y="3240000"/>
            <a:ext cx="360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ыполнили 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Иноземцева Т.Н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Фролова Н.А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-360360" y="8810640"/>
            <a:ext cx="2801880" cy="1449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574560" y="2824200"/>
            <a:ext cx="4286520" cy="3295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5759280" y="711360"/>
            <a:ext cx="2802240" cy="1449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"/>
          <p:cNvSpPr/>
          <p:nvPr/>
        </p:nvSpPr>
        <p:spPr>
          <a:xfrm>
            <a:off x="452520" y="314280"/>
            <a:ext cx="74674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Рекомендации </a:t>
            </a:r>
            <a:br>
              <a:rPr sz="2600"/>
            </a:b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по ослаблению негативного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влияния шума на организм челов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57200" y="1979640"/>
            <a:ext cx="746748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Ограничить ежедневное прослушивание громкой музыки, телевизионных передач, работу за компьютером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 выполнении шумной работы, через каждый час делать 10 минутный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перерыв или прослушивать успокаивающую музы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Следить за разговорной речью: не кричать, не повышать голос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егулярное медицинское обследова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садка деревьев вокруг зда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дпочтение отдавать отдыху на природе, а не дискоте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менение средств  защиты от шум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наушники из шумоизолирующих материал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тивошумные вкладыш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2300dc"/>
              </a:buClr>
              <a:buFont typeface="Wingdings" charset="2"/>
              <a:buChar char="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Информационная работа по профилактике влияния шума на здоровье обучающихся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720720" y="720720"/>
            <a:ext cx="73803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В результате ограничения прослушивания громкой музыки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боты        за компьютером улучшился сон у 30% учащихс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2.  Повысилось внимание и активизировалась учебная деятельность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3. Снизилась доля конфликтов между учащимися на 2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4. В течение зимних каникул 60% учащихся предпочли ежедневное    катание на коньках и лыжах ежедневному сидению у компьютера и    телевизора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5. Провели беседу о негативном влиянии шума на учеников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пагандировали здоровый образ жизни в 4 начальных класс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7. После медицинского обследования 10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евятиклассников получили рекоменд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 лечению и восстановлению слух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232000" cy="1511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2880"/>
            <a:ext cx="7466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ЧЕЛОВЕК 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1600200"/>
            <a:ext cx="74660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, столь мало уважаемое в юных летах, делается в летах зрелости истинным благом; самое чувство жизни бывает гораздо милее тогда, когда уже пролетела ее быстрая половина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М.Карамз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 никогда не может потерять своей цены в глазах человека, потому что и в довольстве и в роскоши плохо жить без здоровья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Г.Черныше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Берегите уши!  Будьте здоровы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Удачи</a:t>
            </a:r>
            <a:r>
              <a:rPr b="0" lang="ru-RU" sz="2400" spc="-1" strike="noStrike">
                <a:solidFill>
                  <a:srgbClr val="3333cc"/>
                </a:solidFill>
                <a:latin typeface="Century Schoolbook"/>
                <a:ea typeface="Arial Unicode MS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539640" y="485928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2"/>
          <a:stretch/>
        </p:blipFill>
        <p:spPr>
          <a:xfrm>
            <a:off x="6659640" y="53964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57200" y="720720"/>
            <a:ext cx="746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Используем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1413000"/>
            <a:ext cx="746748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пользование коммуникативных средств при выполнении проектов как фактор формирования социальной компетентности педагога и учащихся. -Саратов: ИЦ «РАТА», 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ОБЖ, 9 класс, поурочное планирование.-Волгоград: Учитель,200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Материалы Интернет с сайт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mhtv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fil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//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еливерстова Д.Н., Селиверстова В.В., Селиверстов В.Н.Формула здоровья.- Волгоград: Зацарицынский вестник, 19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льичев А.А. Популярная энциклопедия для выживания подростков.-М:ЭКСМО-Пресс,20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олесов Д.В. Учебник «Биология», 8 класс,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6673680" y="4881600"/>
            <a:ext cx="1785960" cy="1417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671400" y="635040"/>
            <a:ext cx="7790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39640" y="4316400"/>
            <a:ext cx="3421080" cy="1984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539640" y="2160720"/>
            <a:ext cx="3419640" cy="19796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720720" y="720720"/>
            <a:ext cx="755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Обоснование выбора темы про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82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основание выбора темы проекта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4319640" y="2340000"/>
            <a:ext cx="414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гативное влияние шума сказывается на органах слуха, сердечно-сосудистой системе, на работе печени, к истощению и перенапряжению нервных клеток, к изменениям в стволовых клетках. Ослабленные клетки нервной системы не могут достаточно четко координировать работу различных систем организма. Различные виды шумов приводят к развитию шумовой болезни.  Проведенные научные исследования показали, что у людей, находящихся в шумной обстановке,  в результате систематического воздействия шума, производительность труда падает на 10% и увеличивается заболеваемость на 3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3"/>
          <a:stretch/>
        </p:blipFill>
        <p:spPr>
          <a:xfrm>
            <a:off x="7020000" y="1260360"/>
            <a:ext cx="1218960" cy="1171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274680"/>
            <a:ext cx="641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ЦЕЛЬ ПРОЕКТА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азработа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екомендации по защите от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негативного воздействия шума   на организм человека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6200" cy="2357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1779480" y="431964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АДАЧ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95280" y="1628640"/>
            <a:ext cx="8115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Выяснить, что такое шу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Выявить источники шума в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окружающе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Выявить опасный предел шума д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осприятия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Рекомендовать способы защиты 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шу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6300720" y="1440000"/>
            <a:ext cx="1643040" cy="1714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619280" y="189000"/>
            <a:ext cx="7035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РИТЕР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35080" y="1481040"/>
            <a:ext cx="9001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     Красоч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     Доступ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изложения материа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     Информатив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     Достовер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480960" y="5040360"/>
            <a:ext cx="1859040" cy="1463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5425920" y="4500720"/>
            <a:ext cx="3033720" cy="1800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3"/>
          <a:stretch/>
        </p:blipFill>
        <p:spPr>
          <a:xfrm>
            <a:off x="5265720" y="1265400"/>
            <a:ext cx="3193920" cy="179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28760" y="735120"/>
            <a:ext cx="79200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то такое шум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беспорядочное сочетание различ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по</a:t>
            </a: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силе и частоте зву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громкие звуки, слившиеся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естройное    звуч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-явление всепроникающее и негатив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воздействующее на организм человека 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совокупности с другими фактор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(вредными       примесями в воздухе и вод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электромагнитным   излучением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апряженностью труда и т.д.).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450120" y="720720"/>
            <a:ext cx="2009520" cy="1079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5219640" y="4140360"/>
            <a:ext cx="3060720" cy="2160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"/>
          <p:cNvSpPr/>
          <p:nvPr/>
        </p:nvSpPr>
        <p:spPr>
          <a:xfrm>
            <a:off x="539640" y="549360"/>
            <a:ext cx="76662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точники шу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Работа бытовых приборов: телевизор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агнитофон, стиральная машина, ради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ранспорт железнодорожны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авиационный,    автомобильны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Строительные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Природные явления: гром, цунам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землетрясение, обвал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узы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лест лист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пот, разгово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ечение воды из кра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Крики, виз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30320" y="1440000"/>
            <a:ext cx="40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0000" y="539640"/>
            <a:ext cx="7559640" cy="63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Физические характеристики шу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Уровень шума измеряется в единицах звукового давления — децибелах (дБ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Болевой порог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                                                        1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кетный двигатель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4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ая музыка                                                               12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робильная машина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1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сс, метро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Уровень шума, вредный для слуха                              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9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Товарный поезд(на расстоянии 33 м)                            8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ылесос (на  расстоянии 3м)                                            7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Автомобильное движение на автостраде                       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зговор                               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Шелест листвы                                                                  1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ий разговор в классе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Хлопанье в ладоши на представлении                           88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«Ура»- хором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Девчачий визг                                                                  127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57120" y="539640"/>
            <a:ext cx="7740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оздействие шума проявля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260360" y="1357200"/>
            <a:ext cx="2995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луховой аппарат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нервную систему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ердечно-сосудистую систем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репродуктивную функцию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3357720" y="2500200"/>
            <a:ext cx="54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Человек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2571840" y="3143160"/>
            <a:ext cx="5759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танови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Раздражительным, нервным, слабым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забывчив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Тревожным, испуганным, плохо види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ухудшается  интеллектуальная деятель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ыстро утомляем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иобрет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Гипертоническую болезн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ессонниц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еправильный обмен вещест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Снижается порог чувствительности нервных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клеток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539640" y="3351240"/>
            <a:ext cx="1981440" cy="2049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0:41:28Z</dcterms:created>
  <dc:creator>Ванек</dc:creator>
  <dc:description/>
  <dc:language>en-US</dc:language>
  <cp:lastModifiedBy>КарМаН</cp:lastModifiedBy>
  <dcterms:modified xsi:type="dcterms:W3CDTF">2011-08-23T12:14:27Z</dcterms:modified>
  <cp:revision>12</cp:revision>
  <dc:subject/>
  <dc:title>Проект на тему: «Негативное влияние шума на  здоровье человека»</dc:title>
</cp:coreProperties>
</file>